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46E-4009-4082-8334-9B8D9D8D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71D-9B35-4151-A663-4BF13ED8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11B-7A59-4809-BD0C-A546EF5E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D46-7B2F-409D-9F19-B9AE436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856-5031-4CDB-BC9E-34A5B91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7CB-0F92-46EF-AAA7-F57B23D5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904-6F9E-4339-A76B-95FA3C8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EAF-334A-413F-922C-0301CCD8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3E6-6588-4AD9-9C85-1691C40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8DB-3D5A-4C76-8BC4-4513FD0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907-23CA-4089-8EFB-FBFC598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132-F928-47BE-83CB-4E37E16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B999-6CA1-4E25-B71E-46FCB7F9E7D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71200" y="18900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uniquer scientifiquement sur une expéri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9480" y="836640"/>
            <a:ext cx="24872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crire l’hypothèse qui s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stée dans l’expé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1773360"/>
            <a:ext cx="2952720" cy="12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iquer les conditions de l’expérience (texte ou schéma): paramètre, variable, témoin, ainsi que sa durée et les facteurs interven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0920" y="3716280"/>
            <a:ext cx="30970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rimer les résultats sous la forme appropriée (schéma, tex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50920" y="4724280"/>
            <a:ext cx="30970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primer leur sign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250920" y="5589720"/>
            <a:ext cx="3097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crire une conclusion en reliant les conditions de l’expérience aux résultats pour valider ou rejeter l’hypothè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250920" y="765000"/>
            <a:ext cx="8713800" cy="5759640"/>
            <a:chOff x="250920" y="765000"/>
            <a:chExt cx="8713800" cy="5759640"/>
          </a:xfrm>
        </p:grpSpPr>
        <p:sp>
          <p:nvSpPr>
            <p:cNvPr id="48" name="Line 9"/>
            <p:cNvSpPr/>
            <p:nvPr/>
          </p:nvSpPr>
          <p:spPr>
            <a:xfrm>
              <a:off x="3492360" y="765000"/>
              <a:ext cx="0" cy="57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"/>
            <p:cNvSpPr/>
            <p:nvPr/>
          </p:nvSpPr>
          <p:spPr>
            <a:xfrm>
              <a:off x="6516720" y="765000"/>
              <a:ext cx="0" cy="57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>
              <a:off x="250920" y="83664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6:35:11Z</dcterms:created>
  <dc:creator>RECTORAT</dc:creator>
  <dc:description/>
  <dc:language>en-US</dc:language>
  <cp:lastModifiedBy>Vincent Guili</cp:lastModifiedBy>
  <dcterms:modified xsi:type="dcterms:W3CDTF">2013-01-14T21:00:47Z</dcterms:modified>
  <cp:revision>2</cp:revision>
  <dc:subject/>
  <dc:title>Diapositive 1</dc:title>
</cp:coreProperties>
</file>